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DB0-2517-4D3D-B00E-0C6BC1E3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881-100A-4CE6-926F-0234633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2FD-1CF2-4418-8A26-0E01AE13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8CB-DFD3-4985-9938-51CADD65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5A2-D3DE-4E44-8B1E-7E8E0A80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BB2-7032-451F-B58C-EDF2B8AD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7E6-D2DB-4940-B48C-A79978CC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37E-EAAC-48B1-9CAE-943BDABC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FF2-BE37-4B9B-A76A-4CFB9E4D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A76-0871-48E0-83C6-7EE59D7E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5BB-8E74-429C-8EFD-0E1A06B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C63-E264-4EFB-B144-CF5ED06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60B2EBD-B504-4AE7-BAE3-D14D8F205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preadsheets.google.com/ccc?key=pINNryLt_vyDiPyHj11WiDg&amp;hl=en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kashyap1@partner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edical Informatician, Clinical Informatics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Healthc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IG Face to 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nowledgments: Members of the HCLSIG/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296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299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08240" y="6095880"/>
            <a:ext cx="418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Talk by Tom On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Re-use and Alignment of Independently developed Industry Standard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880" y="1295280"/>
            <a:ext cx="37242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C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ubClass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L7:PQ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30880" y="1219320"/>
            <a:ext cx="31251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DT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VSORRESU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200400"/>
            <a:ext cx="8229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lignment/Mapp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SystolicBloodPressureMeasuremen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VSTES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TESTCD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ke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SDTM:VSTEST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unit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CM:magnitude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Propert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SOR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DTM:SYSBP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nomedCodeForSystolicBP”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“NCITCodeForSYS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HL7:PQ:mmHg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sameA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VSORRESU: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2863800"/>
            <a:ext cx="152388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028840" y="2787480"/>
            <a:ext cx="1523880" cy="4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3276720"/>
            <a:ext cx="830592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6628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895480"/>
            <a:ext cx="106704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447920"/>
            <a:ext cx="42674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0200" y="4633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560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6856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032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12320" y="3962520"/>
            <a:ext cx="2462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omedCodeForSystolic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600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38080" y="31240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4264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79640" y="3414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2960" y="32767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5880" y="3657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8360" y="342900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0492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744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0660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61960" y="260496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2895480"/>
            <a:ext cx="106668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620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1447920"/>
            <a:ext cx="42670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98400" y="46339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nical Trial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01280" y="152388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64240" y="20718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6360" y="350532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06560" y="3962520"/>
            <a:ext cx="1985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CITCodeForSYS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42040" y="4114800"/>
            <a:ext cx="743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34120" y="312408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312408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38320" y="31240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75680" y="3414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11520" y="3276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3720" y="365760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ORR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84760" y="34290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TEST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200400"/>
            <a:ext cx="4343400" cy="152280"/>
          </a:xfrm>
          <a:custGeom>
            <a:avLst/>
            <a:gdLst/>
            <a:ahLst/>
            <a:rect l="l" t="t" r="r" b="b"/>
            <a:pathLst>
              <a:path w="2592" h="312">
                <a:moveTo>
                  <a:pt x="0" y="312"/>
                </a:moveTo>
                <a:cubicBezTo>
                  <a:pt x="744" y="180"/>
                  <a:pt x="1488" y="48"/>
                  <a:pt x="1920" y="24"/>
                </a:cubicBezTo>
                <a:cubicBezTo>
                  <a:pt x="2352" y="0"/>
                  <a:pt x="2472" y="84"/>
                  <a:pt x="2592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3657600"/>
            <a:ext cx="3962520" cy="533520"/>
          </a:xfrm>
          <a:custGeom>
            <a:avLst/>
            <a:gdLst/>
            <a:ahLst/>
            <a:rect l="l" t="t" r="r" b="b"/>
            <a:pathLst>
              <a:path w="2496" h="336">
                <a:moveTo>
                  <a:pt x="0" y="288"/>
                </a:moveTo>
                <a:cubicBezTo>
                  <a:pt x="92" y="188"/>
                  <a:pt x="184" y="88"/>
                  <a:pt x="480" y="48"/>
                </a:cubicBezTo>
                <a:cubicBezTo>
                  <a:pt x="776" y="8"/>
                  <a:pt x="1440" y="0"/>
                  <a:pt x="1776" y="48"/>
                </a:cubicBezTo>
                <a:cubicBezTo>
                  <a:pt x="2112" y="96"/>
                  <a:pt x="2304" y="216"/>
                  <a:pt x="2496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4267080"/>
            <a:ext cx="3644640" cy="457200"/>
          </a:xfrm>
          <a:custGeom>
            <a:avLst/>
            <a:gdLst/>
            <a:ahLst/>
            <a:rect l="l" t="t" r="r" b="b"/>
            <a:pathLst>
              <a:path w="2296" h="288">
                <a:moveTo>
                  <a:pt x="0" y="0"/>
                </a:moveTo>
                <a:cubicBezTo>
                  <a:pt x="772" y="144"/>
                  <a:pt x="1544" y="288"/>
                  <a:pt x="1920" y="288"/>
                </a:cubicBezTo>
                <a:cubicBezTo>
                  <a:pt x="2296" y="288"/>
                  <a:pt x="2276" y="14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Enabling Clinical Observations Interoperability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8880" y="2604960"/>
            <a:ext cx="1024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d = URI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1760" y="1538280"/>
            <a:ext cx="773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. 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560" y="19954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63080" y="416412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95280" y="24382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0160" y="2529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843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02400" y="308304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92640" y="340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65720" y="36306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67920" y="54864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140000" y="468324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71240" y="2224080"/>
            <a:ext cx="124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olic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0920" y="11430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1461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3880" y="169056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_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53920" y="3429000"/>
            <a:ext cx="48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248160" y="27428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84960" y="3033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205740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82280" y="1143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Hg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1720" y="1143000"/>
            <a:ext cx="1924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CITCodeForSYSB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14479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9056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228600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2438280"/>
            <a:ext cx="83844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74040" y="298296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32480" y="48769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erged Patient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3640" y="1311120"/>
            <a:ext cx="1843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880" y="1281240"/>
            <a:ext cx="510480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http:URIForPati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DCM: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name “Mr. 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 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systolicBP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typ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units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:key   “SnomedCodeForSystolicB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1 _:SystolicBPMeasuremen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df:_2 _:SystolicBPMeasuremen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recordingTime 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1 DCM:magnitude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recordingTime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SystolicBPMeasurement2 DCM:magnitude 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Multiple ways of saying the same thing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3760" y="1295280"/>
            <a:ext cx="17352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WeightType = “Dr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31360" y="1295280"/>
            <a:ext cx="17352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ing Time = 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DryWeight = 7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89120" y="4165560"/>
            <a:ext cx="48747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ryWeight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Weight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type value “Dr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24480" y="302436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these two weight measurements compar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phylactic Irradiation to the Contralateral Breast for BRCA Mutation Carriers Undergoing Treatment for Breast Canc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linicaltrials.gov/ct/show/NCT00496288?order=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ges Eligible for Study:  30 Years   -   90 Years, Genders Eligible for Study:  Fem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emale patient diagnosed with stage I-III breast cancer (AJCC 6), undergoing breast irradiation as part of her adjuvant therap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atient must be a carrier of a deleterious mutation in BRCA 1/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etastatic breast cancer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vious irradiation of the breast or chest wal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egnanc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atients with active connective tissue diseases are excluded due to the potential risk of significant radiotherapy toxicit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recise Protocol Specif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Ag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at[&gt;=30, &lt;=6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Gender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Fema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geI-IIIBreastCan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Mut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utation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leterious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tationGen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CA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agnosi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eastCancer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r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stati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sTherap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radiation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hest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stWal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Cond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asDiseas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sease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Loca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nectiveTiss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v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Chintan Pat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pproximate Match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bsumption reasoning helps match patients against BreastIrradiationTherapy and it’s subclasses as opposed to a String match with “BreastIrradiationTherapy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stematic query weakening by dropping logical conditions can be used to identify more patients who can later be filtered based on further testin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y ways of stating the same thing”: Infer eligibility based on patient data that doesn’t explicitly assert data satisfying a logical cond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Identify Patients in the absence of explicit data about a clinical condi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4480" y="1295280"/>
            <a:ext cx="1811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ease = Hema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8480" y="1295280"/>
            <a:ext cx="2503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ient Recor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= Mr.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pereosinophily =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sytosis =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ood Lymphocytes = ATyp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89120" y="4165560"/>
            <a:ext cx="394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Assert the following Mapp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WithHematologyDis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hypereosinophily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[&gt;1.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lymphosytosi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float [&gt;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bloodLymphocytes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A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he OWL Ontology Engine will infer the 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4120" y="3024360"/>
            <a:ext cx="53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f these two patients have Hematology Dis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18288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le of Seman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Attr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itical Need to Align Data, Information and Knowledge across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nical Observations Interoperability is a critical enab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eed fo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sharable web based specification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itial Analysis seem to suggest the feasibility and applicability of Semantic Web technologi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ming Attractions!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tient Recruitment Use Case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en Source Detailed Clinical Models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emantic DB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mezie Ogbu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mo: SHER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tan P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re is a critical need to develop a collaborative framework of various stakeholders such as healthcare providers, pharmaceuticals and IT vendors to address this important probl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oal: To build consensus and seek participation (time, resources, money!) of these stakeholders to develop a POC that demonstrates feasibility and validates the value propo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ainstorming Session: 4:30pm – 5:30p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ealthcare and Life Sciences: A Taxonom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8520" y="1788840"/>
            <a:ext cx="8122320" cy="4370040"/>
            <a:chOff x="308520" y="1788840"/>
            <a:chExt cx="8122320" cy="4370040"/>
          </a:xfrm>
        </p:grpSpPr>
        <p:sp>
          <p:nvSpPr>
            <p:cNvPr id="47" name=""/>
            <p:cNvSpPr/>
            <p:nvPr/>
          </p:nvSpPr>
          <p:spPr>
            <a:xfrm>
              <a:off x="4876920" y="2438280"/>
              <a:ext cx="1676160" cy="16002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20574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76520" y="52578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4360" y="52182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3080" y="533412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6280" y="54100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6760" y="4724280"/>
              <a:ext cx="91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8520" y="2286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434960" y="1788840"/>
              <a:ext cx="6274080" cy="4370040"/>
              <a:chOff x="1434960" y="1788840"/>
              <a:chExt cx="6274080" cy="4370040"/>
            </a:xfrm>
          </p:grpSpPr>
          <p:sp>
            <p:nvSpPr>
              <p:cNvPr id="56" name="_s559118"/>
              <p:cNvSpPr/>
              <p:nvPr/>
            </p:nvSpPr>
            <p:spPr>
              <a:xfrm>
                <a:off x="3724200" y="2382840"/>
                <a:ext cx="1697040" cy="1697040"/>
              </a:xfrm>
              <a:prstGeom prst="ellipse">
                <a:avLst/>
              </a:prstGeom>
              <a:solidFill>
                <a:srgbClr val="0000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_s559119"/>
              <p:cNvSpPr/>
              <p:nvPr/>
            </p:nvSpPr>
            <p:spPr>
              <a:xfrm>
                <a:off x="3724200" y="17888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medica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_s559120"/>
              <p:cNvSpPr/>
              <p:nvPr/>
            </p:nvSpPr>
            <p:spPr>
              <a:xfrm>
                <a:off x="4282920" y="3350880"/>
                <a:ext cx="1697040" cy="169704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_s559121"/>
              <p:cNvSpPr/>
              <p:nvPr/>
            </p:nvSpPr>
            <p:spPr>
              <a:xfrm>
                <a:off x="601200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act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_s559122"/>
              <p:cNvSpPr/>
              <p:nvPr/>
            </p:nvSpPr>
            <p:spPr>
              <a:xfrm>
                <a:off x="3165480" y="3350880"/>
                <a:ext cx="1697040" cy="1697040"/>
              </a:xfrm>
              <a:prstGeom prst="ellipse">
                <a:avLst/>
              </a:prstGeom>
              <a:solidFill>
                <a:srgbClr val="7777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_s559123"/>
              <p:cNvSpPr/>
              <p:nvPr/>
            </p:nvSpPr>
            <p:spPr>
              <a:xfrm>
                <a:off x="1434960" y="4706640"/>
                <a:ext cx="169704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in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61080" y="5638680"/>
                <a:ext cx="12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sonaliz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dic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902960" y="2514600"/>
              <a:ext cx="129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l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666880" y="297144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0" y="38098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06840" y="2220840"/>
              <a:ext cx="13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1800" y="3048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181480" y="32004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s and 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2920" y="5105520"/>
            <a:ext cx="88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at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spreadsheets.google.com/ccc?key=pINNryLt_vyDiPyHj11WiDg&amp;hl=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Google Spread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38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40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6720" y="6264360"/>
            <a:ext cx="584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Focus of Next Talk by Rachel Rich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Role of Semantic Web Technologies: Exampl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Cont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Generalized and Extensibl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able Open Source Models of Clin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Exchange and Interoperabi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use and alignment of independently developed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Ways of saying the same 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putable Protocol Specific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and Unambiguou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Retrie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identify relevant patients in the absence of explicit data about a clinica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cise, Generalized and Extensible Specification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720" y="1066680"/>
            <a:ext cx="703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stolic Blood Pressure measurement is a pressur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has a value from 0 to 220 and units are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15720" y="1828800"/>
            <a:ext cx="4760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linical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key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SnomedCodeForSystolicB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gnitude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loat[&gt;= 0.0, &lt;= 220.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units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6080" y="3886200"/>
            <a:ext cx="70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tting Systolic Blood Pressure Measurement is a systolic bl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measurement taken when a patient is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67640" y="4876920"/>
            <a:ext cx="45514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itting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equivalen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ystolicBloodPressure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at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bodyPosition 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S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rtners Information Systems</cp:lastModifiedBy>
  <dcterms:modified xsi:type="dcterms:W3CDTF">2007-11-08T13:41:16Z</dcterms:modified>
  <cp:revision>3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